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AA45-031E-4455-B7C9-2B1B7BA06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3EF6-8EDA-47C9-9533-AA38589FC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91C-E605-47E6-B786-7E62C034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765-3396-4346-9FE6-D1BF0BB0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C02-597A-4841-9F1D-14801333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FE1-DBE1-49CD-B77F-C987C942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C60-B415-4231-B539-2D96935B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96C-B45F-4621-ADAD-0C12EFEF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3A4-C505-4ADB-9956-A834EBA3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18F-3AEB-4093-94F9-21032AF6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0CA-64B5-452C-A688-9B78A09B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56B-9586-42C5-A173-2E15DC20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49C-5D39-41ED-827F-69D5FCD4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87E-D147-4959-A390-4DC8C20A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7339-C3B8-4AD5-91A9-0899EA0DA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elin Col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05320"/>
            <a:ext cx="16002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, buenos dias? Mi nombre es Kaelin. Yo vivo en el New York City. Yo tengo catorce años.Yo tengo no hermanos. Yo soy bi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3" descr="Photo on 2011-10-21 at 13.48 #2.jpg"/>
          <p:cNvPicPr/>
          <p:nvPr/>
        </p:nvPicPr>
        <p:blipFill>
          <a:blip r:embed="rId1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5" descr="Photo on 2011-10-24 at 13.44.jpg"/>
          <p:cNvPicPr/>
          <p:nvPr/>
        </p:nvPicPr>
        <p:blipFill>
          <a:blip r:embed="rId2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0" descr="Photo on 2011-10-21 at 13.39 #2.jpg"/>
          <p:cNvPicPr/>
          <p:nvPr/>
        </p:nvPicPr>
        <p:blipFill>
          <a:blip r:embed="rId3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Quién quierer vomanos afuer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ada y tú? Nosotras tenemos estud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qué ha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44956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í! ¿Cuándo? Yo voy corr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666880" y="5105520"/>
            <a:ext cx="44197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perar,pued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57913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cansada y quiero comer cenar. Adi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6"/>
          <p:cNvSpPr/>
          <p:nvPr/>
        </p:nvSpPr>
        <p:spPr>
          <a:xfrm>
            <a:off x="281952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as ellas? Yo son cansada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3" descr="Photo on 2011-11-29 at 13.54.jpg"/>
          <p:cNvPicPr/>
          <p:nvPr/>
        </p:nvPicPr>
        <p:blipFill>
          <a:blip r:embed="rId4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6477120"/>
            <a:ext cx="37335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s hermanas son boni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6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6400800"/>
            <a:ext cx="463320" cy="93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Photo on 12-6-12 at 9.30 AM.jpg"/>
          <p:cNvPicPr/>
          <p:nvPr/>
        </p:nvPicPr>
        <p:blipFill>
          <a:blip r:embed="rId6"/>
          <a:stretch/>
        </p:blipFill>
        <p:spPr>
          <a:xfrm>
            <a:off x="0" y="4572000"/>
            <a:ext cx="639720" cy="9334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76320" y="51055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ys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4" descr="Photo on 12-6-12 at 9.30 AM.jpg"/>
          <p:cNvPicPr/>
          <p:nvPr/>
        </p:nvPicPr>
        <p:blipFill>
          <a:blip r:embed="rId7"/>
          <a:stretch/>
        </p:blipFill>
        <p:spPr>
          <a:xfrm>
            <a:off x="1962000" y="4419720"/>
            <a:ext cx="744840" cy="1085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7" descr="Photo on 12-6-12 at 9.30 AM.jpg"/>
          <p:cNvPicPr/>
          <p:nvPr/>
        </p:nvPicPr>
        <p:blipFill>
          <a:blip r:embed="rId8"/>
          <a:stretch/>
        </p:blipFill>
        <p:spPr>
          <a:xfrm>
            <a:off x="2041560" y="5711760"/>
            <a:ext cx="665280" cy="97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hoto on 12-6-12 at 9.35 AM.jpg"/>
          <p:cNvPicPr/>
          <p:nvPr/>
        </p:nvPicPr>
        <p:blipFill>
          <a:blip r:embed="rId9"/>
          <a:stretch/>
        </p:blipFill>
        <p:spPr>
          <a:xfrm>
            <a:off x="2041560" y="2511360"/>
            <a:ext cx="652320" cy="938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Photo on 12-6-12 at 9.35 AM.jpg"/>
          <p:cNvPicPr/>
          <p:nvPr/>
        </p:nvPicPr>
        <p:blipFill>
          <a:blip r:embed="rId10"/>
          <a:stretch/>
        </p:blipFill>
        <p:spPr>
          <a:xfrm>
            <a:off x="2041560" y="3809880"/>
            <a:ext cx="652320" cy="933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3" descr="Photo on 12-6-12 at 9.35 AM.jpg"/>
          <p:cNvPicPr/>
          <p:nvPr/>
        </p:nvPicPr>
        <p:blipFill>
          <a:blip r:embed="rId11"/>
          <a:stretch/>
        </p:blipFill>
        <p:spPr>
          <a:xfrm>
            <a:off x="2041560" y="5102280"/>
            <a:ext cx="652320" cy="938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Photo on 12-6-12 at 9.35 AM.jpg"/>
          <p:cNvPicPr/>
          <p:nvPr/>
        </p:nvPicPr>
        <p:blipFill>
          <a:blip r:embed="rId12"/>
          <a:stretch/>
        </p:blipFill>
        <p:spPr>
          <a:xfrm>
            <a:off x="669960" y="4572000"/>
            <a:ext cx="6523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3:37Z</dcterms:modified>
  <cp:revision>109</cp:revision>
  <dc:subject/>
  <dc:title>Profile</dc:title>
</cp:coreProperties>
</file>